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849-A644-49FA-ACC9-5612DCB5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8FD-6A1E-4190-ADCB-AFBB3EAD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AE2-CDBB-4D63-B12C-1683C665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2C5-27E5-4778-9D47-799D565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177-996A-492E-80DD-EA471DC7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498-A836-4095-A917-319D84DB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96E3-B526-4AC4-9036-FE82894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48CC-73AC-4198-9C4F-1016D4E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CB2C-1575-4971-B6AE-83BAFC3F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B8B1-412E-4598-975B-B3340832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5A65-CDA1-4EA1-B50F-DB52AF9C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816-97FB-4ED6-89B4-F9A7B7B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6FFF-1426-4611-9C8E-BB5BF94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9AF-2F2D-42FD-A326-7F8DEA2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DBF-67A8-4C4C-A7FB-2924E0A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BD6-938F-4C3C-8705-2BF7336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CB52-DD92-4771-8423-30B652F8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F28-54BC-4DC1-AC31-FF545B46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4B1-4BAA-4DF3-951E-1772AB7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A06-B162-4F5B-99DE-78CAA883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649-F7B1-4F76-A235-474A239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A19-F1D5-4079-A240-E3121B1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E0C-9144-41C2-BA2C-4EFCFBE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3E3-BD64-4A21-825A-93CDBA9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02C-122A-4462-A854-0A8142F4D61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588-945E-426E-8CCE-6F8CF4F9962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</a:t>
            </a:r>
            <a:r>
              <a:rPr b="0" lang="ja-JP" sz="6000" spc="-1" strike="noStrike">
                <a:solidFill>
                  <a:srgbClr val="cc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s Laws of Heredity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Why we look the way we look..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Independent Assortment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enes for different traits ar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inherited independentl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 each other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there for each trait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an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oes a parent pass on to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fspring for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o we call the trait that i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upper or lower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bout the one 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sappear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Phenotype &amp; Genotyp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way an organism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ok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 hair or brown hai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 combin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a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eterozygous &amp; Homozygou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if the two alleles for a trait ar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t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omozygous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if the two alleles for a trait are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me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om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What is 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assing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n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traits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rom parents to offspr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the study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 used pea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reproduc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sexuall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have two distinct,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e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, sex cells calle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i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it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easy to isol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Mendel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crossed</a:t>
            </a: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 them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the uniting of male and female 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ombining gametes from parents with different trait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id Mendel cross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rait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amet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etic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What Did Mendel Find?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e discovered differen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law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u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hat explain  factors affecting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Unit Facto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ch organism has two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different forms of the same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located on chromosomes, they control how an organism develop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Dominanc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s 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ominant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upp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appear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ecessive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low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Segregation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wo alleles for a trai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ust separat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hen gametes are formed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parent randomly pass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y on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ele for each trait to each offspr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9:25:12Z</dcterms:created>
  <dc:creator>Newport News</dc:creator>
  <dc:description/>
  <dc:language>en-US</dc:language>
  <cp:lastModifiedBy>Matt Wegimont</cp:lastModifiedBy>
  <dcterms:modified xsi:type="dcterms:W3CDTF">2013-01-07T21:25:05Z</dcterms:modified>
  <cp:revision>14</cp:revision>
  <dc:subject/>
  <dc:title>Mendel’s Laws of Heredity</dc:title>
</cp:coreProperties>
</file>